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5.png" ContentType="image/png"/>
  <Override PartName="/ppt/media/image12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41.jpeg" ContentType="image/jpeg"/>
  <Override PartName="/ppt/media/image31.png" ContentType="image/png"/>
  <Override PartName="/ppt/media/image29.png" ContentType="image/png"/>
  <Override PartName="/ppt/media/image43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B96-7373-4B74-A7A4-C96F0AC9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50D-1D81-493F-983B-8B420345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C12D6-54AC-45F9-8063-E7788810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ED117-31BD-46E7-BD0F-908FCC4B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A3B68-B573-415C-B724-99815A0E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7EFBB-C4B1-4021-8D57-6AE82649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65FC0-BD32-42DD-98C9-EE17A7E0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3BD65-72FA-4E1D-BEBC-2A9C8881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42D12-703B-4B9C-9302-E33C3B1E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7BB5D-67F5-447F-B05D-3DEE7F0E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BD503-2C53-470A-9C66-33357A51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CF1-E96D-4067-B4D8-78C8970C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6A8-4981-432B-90D8-52DB4B77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3A76-4F64-451C-AEC8-E5EDEA86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958F-7DCF-4D40-9097-797AFDDA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1A5D-F577-4997-9F38-67C438D2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E43A-660D-49AD-B7A6-F63E6561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19E2-BC8D-463F-B275-0C7365AB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D545-5C4A-4129-B593-97C78EC1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459F-946F-4DBE-ABFC-E6ACDDF8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6FD-3635-4512-95E7-36377DBF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458A-93B4-4E00-BCF9-37233C57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E419-87DC-4698-85BE-1F2B2D63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A0C9-7606-42AA-B80B-6B4C2CCB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3419-B8EE-4AE7-B43B-CF27FEA1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7068-C417-4A87-A205-4D0CEFAB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2970C-CF03-4A02-B223-656E36B5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49E8B-26DB-4B91-A20D-5C42F0BF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33779-EC67-43F8-A14A-921878A1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70027-A72A-4EAF-8BBB-C829F749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68291-EB5D-41B0-AB3D-F5CAB445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93FC-F83F-441D-BC68-EC14F6F0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6E9CB-F9B7-421C-B61E-D5CE8D8C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B4052-AB1A-4A44-8E03-AD987573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0004E-B4D6-42A0-A07B-BE14CA0D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25C19-8737-46D6-AC70-0388F2DF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93E2C-CD84-4398-8158-2685D46B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A01AB-8A77-47C4-953B-8DE1C785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5A800-DF0F-4DF1-9495-324F4C50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5FCED-D6E2-42E0-9E5E-9E3D7417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35008-BBA0-4BAB-94F2-A00CC8DB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99467-04B6-4CCB-B3E3-B1CBCAF9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0F9-45BE-4340-AA63-05D56478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C9BE9-D905-48B9-9C67-FDCDFBCA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26FA2-1BFE-4995-B1E8-50EFBE59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955C3-AC16-4B84-9EEF-1B8D8319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AFBA1-C3E9-45FF-B86C-46C76E1B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430A7-FEAF-41C7-820D-784A4DCB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DFB68-E37C-4B86-AECA-4A63A8A1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D19E2-B22E-4951-882D-BF82ABAD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7E059-64B0-4CF5-8C31-EFBD09B9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E27A7-663E-4914-8C40-5F3DBBBA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BA17F-B70E-48FA-96B2-80A73395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1025-73FA-4AF4-A7BD-52DA80C3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19893-323F-412B-831A-302733BE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2B0DB-EED2-451A-B254-D680A6D3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BF3EA-5A9A-4BC0-98C4-E8FC9166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B46C5-6226-42BD-B03F-0C28475B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7CC75-14BD-4EB9-9310-971812FC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BE497-715E-48C1-B478-2AD76010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E03AB-B440-4BB6-ABAE-D0253408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BC6A7-D311-43CF-9395-57089023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C1255-A61E-4889-8374-8EAD9A42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4145E-0FC4-43FC-BC16-B9497170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8CE2-8D03-4309-BC49-A01E18A3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3635B-7211-4DCA-82C4-9BAFF6BB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26A62-FF4D-46AA-8F10-BF0C0B08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1B1A3-0C01-47BD-99FF-CDD97F38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B1021-4112-4EC6-A88A-B72661CB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37EFB-8F2D-41E0-B84B-948B19F6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514F4-C174-478D-AF27-ADD669A9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DEAD8-87EB-4267-B678-70FE53C3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BEB8E-7151-413C-9A14-E35F08EA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73FB7-5682-4B1D-A4D1-7F7ED638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658F2-CED4-4ED7-95AE-C88AF6E2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48CF-7591-4811-B09C-366B0D1B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A4E39-AFBF-42D8-8DC4-82018135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F378E-4A46-4793-9FDC-2DC56682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E67FD-F639-4CFA-BDE1-5FBFF2E5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9D801-24D2-4DD4-B311-DAADAEB1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FB92D-F47C-4D3E-BD2E-9B6CED6D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39B24-A922-41AF-B41F-4DA73D25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F609C-68D3-47E2-BCC5-2588532E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C298C-C14F-4607-85FC-173298D1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0296F-5598-4846-84CD-7912E15A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EF1D6-6F4E-4CC4-8567-880D39DB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CBB0-5B2E-4086-B2CC-F1A4C116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A5FF8-2C4A-444D-83D9-73994C2C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0A201-5312-4BCB-9839-A38E62A2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007D7-2041-4D0D-94ED-4646E9B4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22477-3848-4A3F-9DD7-012FD65F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01FE3-2B16-4F29-B376-E7697DA5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3961C-5001-44CD-990A-09241A60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C20D0-42E2-45FB-8693-5C911ADE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62648-6C8A-46BF-A578-86342B2F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C28EA-9FDB-4802-9617-DEFCAA4D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97C6D-8A56-45F6-AE2B-ED80DE01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B56-A9BC-440F-B42C-322F6637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10191-9A28-4104-81CC-CCBD30D1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0C4A8-7C17-43DB-A362-194D5509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67218-D1A2-490A-90CF-7C5CFE1B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E2468-0DCE-42AE-96F0-66AC21C5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A42E6-F3AE-4CB2-A463-B5A90993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C4151-E510-4028-B280-A5D3157A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1BC68-BF6B-4961-B3D5-4EBEC5B8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48FA3-0594-4764-9F3A-7244947C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FC740-FD9C-4E1B-B4AE-0B15B97C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E8490-5BB0-49C1-8F7A-C3787F04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81C0-9A31-4041-B6BE-AEC5E24EE449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ector reto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A072-771F-4172-B300-9DD35549F218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6F50-6BDC-4E18-A299-FEDA3F7E0DD5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ector reto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B06B-B46C-42FF-A63B-14E8FFACA5C8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ector reto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E864-7CBC-4236-AB23-5882A5A45CFD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38CF-74ED-4F3A-BC97-AF170EDA1D83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ector reto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7C1F-DF60-4EDE-801B-037420C72B11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14F1-B2E4-43B6-A835-8FEF580689F9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EA2A-5D1E-4573-9A64-6334B92D8E80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hyperlink" Target="mailto:quimicopolar@gmail.com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pt.wikipedia.org/wiki/Ficheiro:Ethylene_glycol_chemical_structure.png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pt.wikipedia.org/wiki/Ficheiro:Ethylene-glycol-3D-vdW.png" TargetMode="External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212760" y="749160"/>
            <a:ext cx="8254800" cy="33465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43329"/>
                </a:solidFill>
                <a:latin typeface="Franklin Gothic Book"/>
              </a:rPr>
              <a:t>Profª Moisés Rodrigo G dos Santo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43329"/>
                </a:solidFill>
                <a:latin typeface="Franklin Gothic Book"/>
              </a:rPr>
              <a:t>www.quimicopolar.wikispaces.co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5" descr="2002-71-132-52-i004"/>
          <p:cNvPicPr/>
          <p:nvPr/>
        </p:nvPicPr>
        <p:blipFill>
          <a:blip r:embed="rId2"/>
          <a:stretch/>
        </p:blipFill>
        <p:spPr>
          <a:xfrm>
            <a:off x="468360" y="1143000"/>
            <a:ext cx="8675640" cy="4309920"/>
          </a:xfrm>
          <a:prstGeom prst="rect">
            <a:avLst/>
          </a:prstGeom>
          <a:ln w="0">
            <a:noFill/>
          </a:ln>
        </p:spPr>
      </p:pic>
      <p:sp>
        <p:nvSpPr>
          <p:cNvPr id="426" name="Retângulo 6"/>
          <p:cNvSpPr/>
          <p:nvPr/>
        </p:nvSpPr>
        <p:spPr>
          <a:xfrm>
            <a:off x="428760" y="5769000"/>
            <a:ext cx="8715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Tahoma"/>
              </a:rPr>
              <a:t>Portanto, quanto maior o número de partículas do soluto em solução, maior o abaixamento da pressão máxima de vapor e menor a pressão de vapor do solv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8" name="Tonoscopia   Trabalho de Quimica.avi" descr=""/>
          <p:cNvPicPr/>
          <p:nvPr/>
        </p:nvPicPr>
        <p:blipFill>
          <a:blip r:embed="rId1"/>
          <a:stretch/>
        </p:blipFill>
        <p:spPr>
          <a:xfrm>
            <a:off x="357120" y="1214280"/>
            <a:ext cx="857268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4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8894520" cy="16891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42f"/>
                </a:solidFill>
                <a:latin typeface="Franklin Gothic Book"/>
              </a:rPr>
              <a:t>Temperatura</a:t>
            </a: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: A pressão de vapor aumenta como aumento da temperatur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42f"/>
                </a:solidFill>
                <a:latin typeface="Franklin Gothic Book"/>
              </a:rPr>
              <a:t>Natureza do Soluto</a:t>
            </a: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: Cada líquido apresenta uma pressão de vapor característica numa mesma temperatur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É o estudo da elevação da temperatura de ebulição de um líquido, por meio da adição de um soluto não volátil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diminuição da pressão máxima de vapor do solvente, devido à adição de um soluto, leva inevitavelmente ao </a:t>
            </a:r>
            <a:r>
              <a:rPr b="1" lang="pt-BR" sz="3200" spc="-1" strike="noStrike">
                <a:solidFill>
                  <a:srgbClr val="4e3b30"/>
                </a:solidFill>
                <a:latin typeface="Franklin Gothic Book"/>
              </a:rPr>
              <a:t>aumento da temperatura de ebuliçã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3714480"/>
            <a:ext cx="8686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70c0"/>
                </a:solidFill>
                <a:latin typeface="Franklin Gothic Book"/>
              </a:rPr>
              <a:t>Quanto maior a concentração do soluto, maior a elevação da temperatura de ebulição do solvente e maior a temperatura de ebulição do mesm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5" name="Picture 2" descr="http://www.profpc.com.br/2002-71-132-53-i001.jpg"/>
          <p:cNvPicPr/>
          <p:nvPr/>
        </p:nvPicPr>
        <p:blipFill>
          <a:blip r:embed="rId1"/>
          <a:stretch/>
        </p:blipFill>
        <p:spPr>
          <a:xfrm>
            <a:off x="1000080" y="285840"/>
            <a:ext cx="652140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ítulo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37" name="capture-1.avi" descr=""/>
          <p:cNvPicPr/>
          <p:nvPr/>
        </p:nvPicPr>
        <p:blipFill>
          <a:blip r:embed="rId2"/>
          <a:stretch/>
        </p:blipFill>
        <p:spPr>
          <a:xfrm>
            <a:off x="0" y="1357200"/>
            <a:ext cx="89298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É o estudo do abaixamento da temperatura de congelação de um líquido, por meio da adição de um solut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diminuição da pressão de vapor do solvente, devido à adição de um soluto, leva à diminuição da temperatura de congelament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É uma temperatura e uma pressão nas quais as fases sólida, líquida e gasosa coexiste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e3b30"/>
                </a:solidFill>
                <a:latin typeface="Franklin Gothic Book"/>
              </a:rPr>
              <a:t>http://www.mspc.eng.br/tecdiv/im01/agua_diagr_est1.gif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Picture 5" descr="agua_diagr_est1"/>
          <p:cNvPicPr/>
          <p:nvPr/>
        </p:nvPicPr>
        <p:blipFill>
          <a:blip r:embed="rId2"/>
          <a:stretch/>
        </p:blipFill>
        <p:spPr>
          <a:xfrm>
            <a:off x="1258920" y="2421000"/>
            <a:ext cx="619272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5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304560" y="1599840"/>
            <a:ext cx="4190760" cy="47242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A Figura ilustra o ponto triplo. Gelo (iceberg) coexistindo com o líquido no qual flutua, e com a fase gasosa (ar e vapor de água)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6" name="Picture 4" descr="Quimica_TD_fig03"/>
          <p:cNvPicPr/>
          <p:nvPr/>
        </p:nvPicPr>
        <p:blipFill>
          <a:blip r:embed="rId3"/>
          <a:stretch/>
        </p:blipFill>
        <p:spPr>
          <a:xfrm>
            <a:off x="971640" y="1628640"/>
            <a:ext cx="332244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Fenômeno da disseminação espontânea entre um líquido em outro e vice-vers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difusão de um líquido para outro através de membranas semipermeáveis recebe o nome de OSMO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028"/>
          <p:cNvSpPr/>
          <p:nvPr/>
        </p:nvSpPr>
        <p:spPr>
          <a:xfrm>
            <a:off x="539640" y="476280"/>
            <a:ext cx="813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Um dos assuntos que são freqüentemente abordados nos exames vestibulares do país são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1" lang="pt-BR" sz="2000" spc="-1" strike="noStrike">
                <a:solidFill>
                  <a:srgbClr val="ff0000"/>
                </a:solidFill>
                <a:latin typeface="Tahoma"/>
              </a:rPr>
              <a:t>PROPRIEDADES COLIGATIVA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A sua aplicação está em um dos principais laboratórios de química que você conhece :         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Text Box 1029"/>
          <p:cNvSpPr/>
          <p:nvPr/>
        </p:nvSpPr>
        <p:spPr>
          <a:xfrm>
            <a:off x="468360" y="3141720"/>
            <a:ext cx="8207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PROPRIEDADES COLIGATIVA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          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São propriedades que estão intimamente relacionadas com o número de partículas de um soluto dispersas em uma solução.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           Quando adiciona-se sal de cozinha, (NaCl) á água fervente nota-se que a fervura imediatamente pár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Por quê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tângulo 3"/>
          <p:cNvSpPr/>
          <p:nvPr/>
        </p:nvSpPr>
        <p:spPr>
          <a:xfrm>
            <a:off x="4184640" y="235728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Tahoma"/>
              </a:rPr>
              <a:t>A COZINHA</a:t>
            </a:r>
            <a:r>
              <a:rPr b="1" lang="pt-BR" sz="18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 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sp>
        <p:nvSpPr>
          <p:cNvPr id="451" name="Retângulo 3"/>
          <p:cNvSpPr/>
          <p:nvPr/>
        </p:nvSpPr>
        <p:spPr>
          <a:xfrm>
            <a:off x="428760" y="4786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Tahoma"/>
              </a:rPr>
              <a:t>Quanto maior a concentração do soluto, maior o abaixamento da temperatura de congelamento do solvente e menor a temperatura de congelamento do mesm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1"/>
          <p:cNvSpPr/>
          <p:nvPr/>
        </p:nvSpPr>
        <p:spPr>
          <a:xfrm>
            <a:off x="714240" y="300528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feito Crioscopico do sal no Ponto de Solidificação da água: à direita água pura com Ponto de Solidificação de 0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 e a esquerda água e sal com Ponto de Solidificação de -18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3" name="Picture 2" descr="http://www.profpc.com.br/Foto_acquasale.jpg"/>
          <p:cNvPicPr/>
          <p:nvPr/>
        </p:nvPicPr>
        <p:blipFill>
          <a:blip r:embed="rId2"/>
          <a:stretch/>
        </p:blipFill>
        <p:spPr>
          <a:xfrm>
            <a:off x="1643040" y="428760"/>
            <a:ext cx="52293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3" descr=""/>
          <p:cNvPicPr/>
          <p:nvPr/>
        </p:nvPicPr>
        <p:blipFill>
          <a:blip r:embed="rId1"/>
          <a:stretch/>
        </p:blipFill>
        <p:spPr>
          <a:xfrm>
            <a:off x="714240" y="2357280"/>
            <a:ext cx="8001000" cy="280836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4"/>
          <p:cNvSpPr/>
          <p:nvPr/>
        </p:nvSpPr>
        <p:spPr>
          <a:xfrm>
            <a:off x="571680" y="214200"/>
            <a:ext cx="8076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5644e"/>
                </a:solidFill>
                <a:latin typeface="Verdana"/>
              </a:rPr>
              <a:t>OSMO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5644e"/>
                </a:solidFill>
                <a:latin typeface="Verdana"/>
              </a:rPr>
              <a:t> </a:t>
            </a:r>
            <a:r>
              <a:rPr b="0" lang="pt-BR" sz="3200" spc="-1" strike="noStrike">
                <a:solidFill>
                  <a:srgbClr val="a5644e"/>
                </a:solidFill>
                <a:latin typeface="Verdana"/>
              </a:rPr>
              <a:t>fenômeno que permite a passagem do solvente do meio mais </a:t>
            </a: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diluído</a:t>
            </a:r>
            <a:r>
              <a:rPr b="0" lang="pt-BR" sz="3200" spc="-1" strike="noStrike">
                <a:solidFill>
                  <a:srgbClr val="a5644e"/>
                </a:solidFill>
                <a:latin typeface="Verdana"/>
              </a:rPr>
              <a:t> para o meio mais </a:t>
            </a: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concentrado</a:t>
            </a:r>
            <a:r>
              <a:rPr b="0" lang="pt-BR" sz="3200" spc="-1" strike="noStrike">
                <a:solidFill>
                  <a:srgbClr val="a5644e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tângulo 4"/>
          <p:cNvSpPr/>
          <p:nvPr/>
        </p:nvSpPr>
        <p:spPr>
          <a:xfrm>
            <a:off x="285840" y="52149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Osmose é a passagem de um solvente para o interior de uma solução feita desse mesmo solvente, através de uma membrana semipermeável (MSP). A osmose também é uma propriedade coligativa da solução, pois depende do número de partículas dissolvi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848360" cy="433836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3"/>
          <p:cNvSpPr/>
          <p:nvPr/>
        </p:nvSpPr>
        <p:spPr>
          <a:xfrm>
            <a:off x="609480" y="3808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Verdana"/>
              </a:rPr>
              <a:t>Análise microscópic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PRESSÃO DE VAPOR DA ÁGUA PURA  (P</a:t>
            </a:r>
            <a:r>
              <a:rPr b="0" lang="pt-BR" sz="3200" spc="-1" strike="noStrike" baseline="-25000">
                <a:solidFill>
                  <a:srgbClr val="4e3b30"/>
                </a:solidFill>
                <a:latin typeface="Franklin Gothic Book"/>
              </a:rPr>
              <a:t>0</a:t>
            </a: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) É MAIOR QUE A DA ÁGUA NA SOLUÇÃO (P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ÁGUA SE DESLOCA DE UMA REGIÃO MENOS CONCETRADA PARA UMA REGIÃO MAIS CONCENTRAD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8955000" cy="5429160"/>
          </a:xfrm>
          <a:prstGeom prst="rect">
            <a:avLst/>
          </a:prstGeom>
          <a:ln w="0">
            <a:noFill/>
          </a:ln>
        </p:spPr>
      </p:pic>
      <p:sp>
        <p:nvSpPr>
          <p:cNvPr id="463" name="Retângulo 6"/>
          <p:cNvSpPr/>
          <p:nvPr/>
        </p:nvSpPr>
        <p:spPr>
          <a:xfrm>
            <a:off x="3571920" y="3429000"/>
            <a:ext cx="5357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70c0"/>
                </a:solidFill>
                <a:latin typeface="Tahoma"/>
              </a:rPr>
              <a:t>No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Tahoma"/>
              </a:rPr>
              <a:t>A membrana semipermeável (MSP), que pode ser feita de bexiga de animal ou celofane, é seletiva, ou seja, deixa passar o solvente, mas não deixa passar o solu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Tahoma"/>
              </a:rPr>
              <a:t>Observa-se que o nível do solvente diminui após um certo tempo, enquanto o nível da solução aum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" descr=""/>
          <p:cNvPicPr/>
          <p:nvPr/>
        </p:nvPicPr>
        <p:blipFill>
          <a:blip r:embed="rId2"/>
          <a:stretch/>
        </p:blipFill>
        <p:spPr>
          <a:xfrm>
            <a:off x="0" y="1125360"/>
            <a:ext cx="5832360" cy="31863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375444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mínima pressão externa que deve ser aplicada à solução quando separada do seu solvente puro para impedir a osmos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Pressão osmótica depende da concentração da soluçã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Ocorre quando se aplica uma pressão no lado da solução mais salina ou concentrada, revertendo-se a tendência natural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Neste caso, a água da solução salina passa para o lado da água pura, ficando retidos os íons dos sais nela dissolvido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A pressão a ser aplicada equivale a uma pressão maior do que a pressão osmótica característica da solução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"/>
          <p:cNvPicPr/>
          <p:nvPr/>
        </p:nvPicPr>
        <p:blipFill>
          <a:blip r:embed="rId2"/>
          <a:stretch/>
        </p:blipFill>
        <p:spPr>
          <a:xfrm>
            <a:off x="214200" y="1119240"/>
            <a:ext cx="89298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0" y="3854520"/>
            <a:ext cx="4680000" cy="25574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2190960" cy="15714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5" descr=""/>
          <p:cNvPicPr/>
          <p:nvPr/>
        </p:nvPicPr>
        <p:blipFill>
          <a:blip r:embed="rId4"/>
          <a:stretch/>
        </p:blipFill>
        <p:spPr>
          <a:xfrm>
            <a:off x="5508720" y="314172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unoscopia.avi" descr=""/>
          <p:cNvPicPr/>
          <p:nvPr/>
        </p:nvPicPr>
        <p:blipFill>
          <a:blip r:embed="rId1"/>
          <a:stretch/>
        </p:blipFill>
        <p:spPr>
          <a:xfrm>
            <a:off x="190440" y="214200"/>
            <a:ext cx="866772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ítulo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Fazer uma Pesquisa sobre as propriedades coligativas (0 a 5) e enviar no meu email: </a:t>
            </a:r>
            <a:r>
              <a:rPr b="0" lang="pt-BR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quimicopolar@gmail.com</a:t>
            </a: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 (não será aceita copia fiel da internet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Realizar um experimento em sala de aula (0 a 5) e explicar. (pode trazê-lo filmado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"/>
          <p:cNvSpPr/>
          <p:nvPr/>
        </p:nvSpPr>
        <p:spPr>
          <a:xfrm>
            <a:off x="0" y="3315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água pura à pressão de 1 atm possui ponto de fusão de 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 e ponto de ebulição de 10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quando adicionamos um soluto não volátil à água, o soluto modifica as propriedades físicas da água. Agora a água congela abaixo de 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 e ferve acima de 10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. Estas alterações das propriedades físicas da água devido à adição do soluto são denominados d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feitos coligativ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2" descr="http://ceticismo.files.wordpress.com/2008/11/agua_pura.jpg"/>
          <p:cNvPicPr/>
          <p:nvPr/>
        </p:nvPicPr>
        <p:blipFill>
          <a:blip r:embed="rId1"/>
          <a:stretch/>
        </p:blipFill>
        <p:spPr>
          <a:xfrm>
            <a:off x="155520" y="-18618120"/>
            <a:ext cx="2190960" cy="2457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http://ceticismo.files.wordpress.com/2008/11/agua_pura.jpg"/>
          <p:cNvPicPr/>
          <p:nvPr/>
        </p:nvPicPr>
        <p:blipFill>
          <a:blip r:embed="rId2"/>
          <a:stretch/>
        </p:blipFill>
        <p:spPr>
          <a:xfrm>
            <a:off x="3000240" y="1214280"/>
            <a:ext cx="219096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14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O uso de aditivos, como o etilenoglicol, à água do radiador de carros evita que ela entre em ebulição, no caso de um superaquecimento do motor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5" descr="Ethylene glycol chemical structur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5429160"/>
            <a:ext cx="4371840" cy="1141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Ethylene-glycol-3D-vdW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86280" y="825480"/>
            <a:ext cx="2643480" cy="1717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http://www.wolfracing.com.br/images/motocool.jpg"/>
          <p:cNvPicPr/>
          <p:nvPr/>
        </p:nvPicPr>
        <p:blipFill>
          <a:blip r:embed="rId6"/>
          <a:stretch/>
        </p:blipFill>
        <p:spPr>
          <a:xfrm>
            <a:off x="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4"/>
          <p:cNvSpPr/>
          <p:nvPr/>
        </p:nvSpPr>
        <p:spPr>
          <a:xfrm>
            <a:off x="-142920" y="6122160"/>
            <a:ext cx="500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Aditivo do radiador: evita o congelamento e a ebulição da água que refrigera o motor do carr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Nos países em que o inverno é rigoroso, esse mesmo aditivo tem o efeito de evitar o congelamento da água do radiador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Nesses países, joga-se SAL nas estradas e ruas com acúmulo de neve para derretê-l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Em verduras cruas com sal, as células perdem água mais rapidamente, murchando em pouco temp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"/>
          <p:cNvSpPr/>
          <p:nvPr/>
        </p:nvSpPr>
        <p:spPr>
          <a:xfrm>
            <a:off x="285840" y="16848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Para cada propriedade física que modifica temos uma propriedade coligativa que estuda este efei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28760" y="1857240"/>
          <a:ext cx="8572320" cy="2198880"/>
        </p:xfrm>
        <a:graphic>
          <a:graphicData uri="http://schemas.openxmlformats.org/drawingml/2006/table">
            <a:tbl>
              <a:tblPr/>
              <a:tblGrid>
                <a:gridCol w="4286160"/>
                <a:gridCol w="4286160"/>
              </a:tblGrid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0000"/>
                          </a:solidFill>
                          <a:latin typeface="Trebuchet MS"/>
                          <a:ea typeface="Times New Roman"/>
                        </a:rPr>
                        <a:t>EFEITO COLIG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0000"/>
                          </a:solidFill>
                          <a:latin typeface="Trebuchet MS"/>
                          <a:ea typeface="Times New Roman"/>
                        </a:rPr>
                        <a:t>PROPRIEDADE COLIG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iminuição da pressão de vap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onoscop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umento do Ponto de Ebuli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bulioscop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iminuição do Ponto de Congel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rioscop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umento da Pressão Osmó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smoscop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Retângulo 7"/>
          <p:cNvSpPr/>
          <p:nvPr/>
        </p:nvSpPr>
        <p:spPr>
          <a:xfrm>
            <a:off x="500040" y="464328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70c0"/>
                </a:solidFill>
                <a:latin typeface="Trebuchet MS"/>
              </a:rPr>
              <a:t>Os efeitos coligativos dependem </a:t>
            </a:r>
            <a:r>
              <a:rPr b="1" lang="pt-BR" sz="2800" spc="-1" strike="noStrike">
                <a:solidFill>
                  <a:srgbClr val="0070c0"/>
                </a:solidFill>
                <a:latin typeface="Trebuchet MS"/>
              </a:rPr>
              <a:t>somente</a:t>
            </a:r>
            <a:r>
              <a:rPr b="0" lang="pt-BR" sz="2800" spc="-1" strike="noStrike">
                <a:solidFill>
                  <a:srgbClr val="0070c0"/>
                </a:solidFill>
                <a:latin typeface="Trebuchet MS"/>
              </a:rPr>
              <a:t> do número de partículas do soluto dissolvidas. Quanto maior for o número de partículas do soluto dissolvidas, maiores serão os efeitos coligativ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Diminuição da pressão de vapor de um líquido, provocada pela dissolução de um soluto não-volátil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pressão de vapor da solução formada por um soluto (não-volátil) em solvente é menor que a do solvente puro, pois a interação entre as partículas do soluto e as moléculas do solvente diminuem as saídas destas última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18:55:09Z</dcterms:created>
  <dc:creator>Marcia</dc:creator>
  <dc:description/>
  <dc:language>en-US</dc:language>
  <cp:lastModifiedBy>Moises</cp:lastModifiedBy>
  <dcterms:modified xsi:type="dcterms:W3CDTF">2010-06-24T01:32:39Z</dcterms:modified>
  <cp:revision>60</cp:revision>
  <dc:subject/>
  <dc:title>PROPRIEDADES COLIGATIV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